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AC6F-39EB-462D-BF24-FFD24ABDC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B36-9919-4593-9ACF-C47F47744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B0B-E2E6-4412-830C-D6747643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DE8-EBFC-4D7C-9EEA-E67A372B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90F-1E70-47D1-84EE-D6668FD6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123-159F-4C02-BDCA-342C28CC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DB0-2C24-4A3C-BC02-DF9BCC19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001-8BB4-4EDA-9493-50248A86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D28-EB11-41C3-B638-F9D3566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769-C490-435A-AA05-77365CAC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14C-39FD-4440-8F82-2F5B781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F51-3865-42AA-939C-7D69E29D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EEC-B06F-4B08-B7EE-082CF345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C52-2218-4254-AC7C-3CBDDD4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14B-9416-4E94-8B1B-A1BA67C63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FA7-27E2-4466-B9C5-A48BE31F6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нояб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C9EC-17C8-41B6-9F10-120F2632E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нояб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12-02T05:56:22Z</dcterms:modified>
  <cp:revision>175</cp:revision>
  <dc:subject/>
  <dc:title>Презентация PowerPoint</dc:title>
</cp:coreProperties>
</file>